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826-DD4A-459B-9CE7-1E4C76FD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EC0-BC9A-48AD-9FB3-530A8EED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3C5-E20F-42EC-9429-282C768D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2D1-9B33-42AE-98D6-0DF0C538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6A9-1E7D-440D-95F2-9F5A6199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1A7-893D-4D86-9F9B-5EA074CA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0E9-69D7-45F5-BB6B-45389C37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B0A-CA52-44B7-993A-AB8DF5E7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D56-FDFF-44DC-9F1E-FB44B61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69A-79FF-4591-B062-D14FC687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0FF-7E86-436D-80DF-FE3CBAEA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3E8-1833-479E-97AE-4F3D0DA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2A56-EDC9-4F24-A552-CBE7BDD66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30481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WE ARE IN CONTEMPORARY M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WE GOING TO USE THIS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Documents and Settings\Tina\Desktop\SCHOOL\SHS 09-10\topbarimage.jpg"/>
          <p:cNvPicPr/>
          <p:nvPr/>
        </p:nvPicPr>
        <p:blipFill>
          <a:blip r:embed="rId1"/>
          <a:stretch/>
        </p:blipFill>
        <p:spPr>
          <a:xfrm>
            <a:off x="1905120" y="762120"/>
            <a:ext cx="5419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143000" y="2057400"/>
            <a:ext cx="7238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kills required for math proficiency are cut and dried, but using these tools takes creativ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mathematics is like the creative process of building a home: The task demands specific skills to lay the foundation, frame in the structure, install plumbing, etc.  But building the home also requires crea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SOMETIMES DOES NOT PROVIDE EXACT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143000" y="2057400"/>
            <a:ext cx="723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ool math is often either right or wrong.  But in real life, answers are never so clear-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complex decisions required to choose a good inve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IS RELEVANT TO M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143000" y="2057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tter what your future holds, you will find math involved in many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A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ATH IS THE SUM OF ITS BRA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the principles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RITHME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ethods for operating o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LGEB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ethods for working with unknown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GE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size and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RIGON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triangles and their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ch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ethods for analyzing data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ALCU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quantities that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ATH IS A WAY TO MODEL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8380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models can be as simple as a single equation that predicts how the money in your bank account will grow or as complex as a set of thousands of interrelated equations used to represent the global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ATH IS A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38080" y="2133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 is called the “language of nature” because it is so useful in describing the natural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87360" y="1890720"/>
          <a:ext cx="8370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890720"/>
                    <a:ext cx="8370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61960" y="585720"/>
          <a:ext cx="62200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585720"/>
                    <a:ext cx="62200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3520" y="33480"/>
          <a:ext cx="8305560" cy="67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480"/>
                    <a:ext cx="8305560" cy="67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676520" y="0"/>
            <a:ext cx="552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your attitude towards math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negative attitude, how did it develop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positive attitude, can you explain why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1600200"/>
            <a:ext cx="80769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have a natural affinity towards math as children.  Think back to when you were 5 or 6 years old.  Did you take great pride in counting skills and enjoy puzzles and building blocks? What happened between then and now?  Write a short essay answering the following questions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71600" y="7621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ASS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DOES NOT REQUIRE A SPECIAL B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43000" y="2057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everyone can do math.  All it takes is self-confidence and hard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TH IN MODERN ISSU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TOO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43000" y="2057400"/>
            <a:ext cx="7238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it’s true that only a few people receive the training needed to work with or discover advanced mathematical concepts, most people  ARE capable of understanding enough math to make informed opin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rue of other fields, too.  Not everyone can be a professional writer, but most people can read a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DOES NOT MAKE YOU LESS SEN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143000" y="205740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no accident that people trained in math have made important contributions to art and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the math that explains the colors of a sunset or the geometric beauty in a work of art can only enhance its appre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MAKES ALLOWANCES FOR CREA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1:38:01Z</dcterms:created>
  <dc:creator>Karen Harrington</dc:creator>
  <dc:description/>
  <dc:language>en-US</dc:language>
  <cp:lastModifiedBy>SHS</cp:lastModifiedBy>
  <dcterms:modified xsi:type="dcterms:W3CDTF">2011-06-15T15:18:19Z</dcterms:modified>
  <cp:revision>166</cp:revision>
  <dc:subject/>
  <dc:title>PowerPoint Presentation</dc:title>
</cp:coreProperties>
</file>